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10515600" cy="7315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E46D-686C-4C38-8823-4810C2A79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AD33-E505-423A-AEB3-2D42A7921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FF6B-0479-4E39-8F3A-EB420EC73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F46E-9673-4ABF-9CDB-0ACE16704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E8C0-33BF-4C84-8107-656458F63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4CE1-EC2D-4270-A7E4-771AC976D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C757-BF3A-406D-8187-BCDFF67CD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DA0B-134E-4A7A-B9AD-8797781D3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6668-F8DB-4E80-B168-74C4022FD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6CE8-53C1-4116-B876-4FED18D30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36CE-FCF6-45E6-B36D-DF51E18C4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F162-1248-4C90-A609-20377BE5A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C136-8AEC-4CD8-844D-0718C865C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CE7A-EF27-4EF3-8318-6F74AB586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8241-AC3A-4209-BE1B-9405D4801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5D37-235C-44A0-8B98-B67162A05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0D7A-FFBD-4548-AFF7-A6CCD4D06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4CAF-BA90-4F17-BD3D-E4BE162A4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F395-9A09-4CB3-8D51-81EC364FE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2332-9255-492C-97A1-6AEA672AD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1959-1D91-48DF-A6E5-500F8913A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6772-0B75-4599-9B7E-932BBFD3F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2D78-EB4E-47AD-839C-76DF370DF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6500-8BA6-4709-88E7-C39F19C6C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650B-AE92-40F9-8974-954157E07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117C-651F-4E5E-8E1B-8C178F1DA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sources"/>
          <p:cNvPicPr/>
          <p:nvPr/>
        </p:nvPicPr>
        <p:blipFill>
          <a:blip r:embed="rId3"/>
          <a:stretch/>
        </p:blipFill>
        <p:spPr>
          <a:xfrm>
            <a:off x="4384800" y="6765840"/>
            <a:ext cx="1692000" cy="48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me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87600" y="6762600"/>
            <a:ext cx="998640" cy="4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next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previous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resources"/>
          <p:cNvPicPr/>
          <p:nvPr/>
        </p:nvPicPr>
        <p:blipFill>
          <a:blip r:embed="rId3"/>
          <a:stretch/>
        </p:blipFill>
        <p:spPr>
          <a:xfrm>
            <a:off x="4384800" y="6759720"/>
            <a:ext cx="1692000" cy="487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evious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ocab Folder"/>
          <p:cNvPicPr/>
          <p:nvPr/>
        </p:nvPicPr>
        <p:blipFill>
          <a:blip r:embed="rId6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o-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3382920" y="6765840"/>
            <a:ext cx="99864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exit red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043920" y="6272280"/>
            <a:ext cx="1398600" cy="4762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4d4d4d">
                <a:alpha val="50000"/>
              </a:srgbClr>
            </a:outerShdw>
          </a:effectLst>
        </p:spPr>
      </p:pic>
      <p:sp>
        <p:nvSpPr>
          <p:cNvPr id="118" name="Text Box 3"/>
          <p:cNvSpPr/>
          <p:nvPr/>
        </p:nvSpPr>
        <p:spPr>
          <a:xfrm>
            <a:off x="2619360" y="6964200"/>
            <a:ext cx="5257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200" spc="-1" strike="noStrike">
                <a:solidFill>
                  <a:srgbClr val="ffffef"/>
                </a:solidFill>
                <a:latin typeface="Arial Unicode MS"/>
              </a:rPr>
              <a:t>Click on a lesson name to se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phas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tmp/home/.config/libreoffice/4/user/gallery/sister_chromatid.wav" TargetMode="External"/><Relationship Id="rId4" Type="http://schemas.openxmlformats.org/officeDocument/2006/relationships/image" Target="../media/image12.png"/><Relationship Id="rId5" Type="http://schemas.openxmlformats.org/officeDocument/2006/relationships/hyperlink" Target="file:///tmp/home/.config/libreoffice/4/user/gallery/centromere.wav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file:///tmp/home/.config/libreoffice/4/user/gallery/metaphase.wav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naphase.wav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elophase.wav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tmp/home/.config/libreoffice/4/user/gallery/cancer.wav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poptosis.wav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file:///tmp/home/.config/libreoffice/4/user/gallery/stem_cell.wav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ell_cycle.wav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interphase.wav" TargetMode="External"/><Relationship Id="rId2" Type="http://schemas.openxmlformats.org/officeDocument/2006/relationships/image" Target="../media/image12.png"/><Relationship Id="rId3" Type="http://schemas.openxmlformats.org/officeDocument/2006/relationships/hyperlink" Target="file:///tmp/home/.config/libreoffice/4/user/gallery/mitosis.wav" TargetMode="External"/><Relationship Id="rId4" Type="http://schemas.openxmlformats.org/officeDocument/2006/relationships/image" Target="../media/image12.png"/><Relationship Id="rId5" Type="http://schemas.openxmlformats.org/officeDocument/2006/relationships/hyperlink" Target="file:///tmp/home/.config/libreoffice/4/user/gallery/cytokinesis.wav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Second Stage of Interphase,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85880" y="2077920"/>
            <a:ext cx="7900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ll copies its DNA in preparation for cell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ch 9 im 8 9 10"/>
          <p:cNvPicPr/>
          <p:nvPr/>
        </p:nvPicPr>
        <p:blipFill>
          <a:blip r:embed="rId1"/>
          <a:stretch/>
        </p:blipFill>
        <p:spPr>
          <a:xfrm>
            <a:off x="1871640" y="3581280"/>
            <a:ext cx="6781680" cy="30718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0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85880" y="1311120"/>
            <a:ext cx="84344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Third Stage of Interphase, G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Arial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" descr="ch 9 im 8 9 10"/>
          <p:cNvPicPr/>
          <p:nvPr/>
        </p:nvPicPr>
        <p:blipFill>
          <a:blip r:embed="rId1"/>
          <a:stretch/>
        </p:blipFill>
        <p:spPr>
          <a:xfrm>
            <a:off x="1871640" y="3581280"/>
            <a:ext cx="6781680" cy="3071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1"/>
          <p:cNvSpPr/>
          <p:nvPr/>
        </p:nvSpPr>
        <p:spPr>
          <a:xfrm>
            <a:off x="785880" y="2081160"/>
            <a:ext cx="85104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ll prepares for the division of its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Stages of M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785880" y="202104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P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285920" y="2728800"/>
            <a:ext cx="70959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285920" y="3438360"/>
            <a:ext cx="7095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Sister chromati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ttached at 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centrom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1285920" y="4624560"/>
            <a:ext cx="73263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pindle fibers for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cytopl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560" y="2133720"/>
            <a:ext cx="409680" cy="3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6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4038480"/>
            <a:ext cx="411120" cy="357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7" descr="AUDIO cop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40384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785880" y="1919160"/>
            <a:ext cx="36338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clear envelope seems to dis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785880" y="3703680"/>
            <a:ext cx="3862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4" descr="ch 9 im 12"/>
          <p:cNvPicPr/>
          <p:nvPr/>
        </p:nvPicPr>
        <p:blipFill>
          <a:blip r:embed="rId1"/>
          <a:stretch/>
        </p:blipFill>
        <p:spPr>
          <a:xfrm>
            <a:off x="4834080" y="2138400"/>
            <a:ext cx="5105160" cy="2978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8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M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85880" y="2014560"/>
            <a:ext cx="4167000" cy="25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ster chromatids are pulled along the spindle apparatus toward the center of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785880" y="4678200"/>
            <a:ext cx="42433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ch 9 im 13"/>
          <p:cNvPicPr/>
          <p:nvPr/>
        </p:nvPicPr>
        <p:blipFill>
          <a:blip r:embed="rId1"/>
          <a:stretch/>
        </p:blipFill>
        <p:spPr>
          <a:xfrm>
            <a:off x="5243400" y="2109960"/>
            <a:ext cx="4573800" cy="3079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3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5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A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85880" y="200988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icrotubules of the spindle apparatus begin to shor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85880" y="3200400"/>
            <a:ext cx="8739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785880" y="3895560"/>
            <a:ext cx="81280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3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447920"/>
            <a:ext cx="41256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T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85880" y="2009880"/>
            <a:ext cx="8739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785880" y="3200400"/>
            <a:ext cx="8434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wo new nuclear membranes begin to form and the nucleoli reapp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785880" y="438300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indle apparatus disassem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3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ytoki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785880" y="200988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animal cells, microfilaments constrict, or pinch, the cytopl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785880" y="3200400"/>
            <a:ext cx="8434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n plant cells, a new structure, called a cell plate, fo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785880" y="1311120"/>
            <a:ext cx="8434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Normal Cell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785880" y="1963800"/>
            <a:ext cx="4167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 cyclin/CDK combinations signal other activities, including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ch 9 im 18"/>
          <p:cNvPicPr/>
          <p:nvPr/>
        </p:nvPicPr>
        <p:blipFill>
          <a:blip r:embed="rId1"/>
          <a:stretch/>
        </p:blipFill>
        <p:spPr>
          <a:xfrm>
            <a:off x="5257800" y="2082960"/>
            <a:ext cx="4614840" cy="31273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9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Quality Control Check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785880" y="2021040"/>
            <a:ext cx="85867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ll cycle ha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built-in checkpoin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at monitor the cycle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an stop it if something goes w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85880" y="370512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pindle checkpoints also have been identified in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1"/>
          <p:cNvSpPr/>
          <p:nvPr/>
        </p:nvSpPr>
        <p:spPr>
          <a:xfrm>
            <a:off x="519120" y="593640"/>
            <a:ext cx="9448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3200" spc="-1" strike="noStrike">
                <a:solidFill>
                  <a:srgbClr val="a6000d"/>
                </a:solidFill>
                <a:latin typeface="Arial"/>
              </a:rPr>
              <a:t>Cellular Re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2287440" y="2603520"/>
            <a:ext cx="805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just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1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2293920" y="3254400"/>
            <a:ext cx="73994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</a:t>
            </a:r>
            <a:r>
              <a:rPr b="0" lang="en-US" sz="2800" spc="-1" strike="noStrike">
                <a:solidFill>
                  <a:srgbClr val="007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2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Mitosis and Cytoki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2289240" y="3881520"/>
            <a:ext cx="7397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3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Abnormal Cell Cycle: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785880" y="2021040"/>
            <a:ext cx="44719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1" descr="ch 9 im 20"/>
          <p:cNvPicPr/>
          <p:nvPr/>
        </p:nvPicPr>
        <p:blipFill>
          <a:blip r:embed="rId1"/>
          <a:stretch/>
        </p:blipFill>
        <p:spPr>
          <a:xfrm>
            <a:off x="5553000" y="2112840"/>
            <a:ext cx="4343400" cy="288000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3"/>
          <p:cNvGrpSpPr/>
          <p:nvPr/>
        </p:nvGrpSpPr>
        <p:grpSpPr>
          <a:xfrm>
            <a:off x="785880" y="3699000"/>
            <a:ext cx="8772480" cy="2059200"/>
            <a:chOff x="785880" y="3699000"/>
            <a:chExt cx="8772480" cy="2059200"/>
          </a:xfrm>
        </p:grpSpPr>
        <p:sp>
          <p:nvSpPr>
            <p:cNvPr id="289" name="Text Box 7"/>
            <p:cNvSpPr/>
            <p:nvPr/>
          </p:nvSpPr>
          <p:spPr>
            <a:xfrm>
              <a:off x="785880" y="3699000"/>
              <a:ext cx="4471920" cy="15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 marL="254160" indent="-254160">
                <a:buClr>
                  <a:srgbClr val="a50021"/>
                </a:buClr>
                <a:buFont typeface="Wingdings" charset="2"/>
                <a:buChar char="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ancer cells can kill an organism by crowding out norm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12"/>
            <p:cNvSpPr/>
            <p:nvPr/>
          </p:nvSpPr>
          <p:spPr>
            <a:xfrm>
              <a:off x="1047600" y="5168880"/>
              <a:ext cx="851076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ells, resulting in the loss of tissue functio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14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6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2040" y="3048120"/>
            <a:ext cx="4096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auses of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785880" y="2021040"/>
            <a:ext cx="85104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anges that occur in the regulation of cell growth and division of cancer cells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due to mut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785880" y="3708360"/>
            <a:ext cx="88916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Apop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785880" y="2021040"/>
            <a:ext cx="85104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85880" y="2728800"/>
            <a:ext cx="8891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ells going through apoptosis actually shrink and shrivel in a controlled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1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85880" y="13003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Stem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785880" y="2200320"/>
            <a:ext cx="44719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when under the righ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8" descr="ch 9 im 23"/>
          <p:cNvPicPr/>
          <p:nvPr/>
        </p:nvPicPr>
        <p:blipFill>
          <a:blip r:embed="rId1"/>
          <a:stretch/>
        </p:blipFill>
        <p:spPr>
          <a:xfrm>
            <a:off x="5181480" y="2117880"/>
            <a:ext cx="4624560" cy="30160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3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5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Embryonic Stem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785880" y="2021040"/>
            <a:ext cx="86630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ter fertilization, the resulting mass of cells divides repeatedly until there are about       1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50 cells.  These cells have not become special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6" descr="Vlab_100"/>
          <p:cNvPicPr/>
          <p:nvPr/>
        </p:nvPicPr>
        <p:blipFill>
          <a:blip r:embed="rId1"/>
          <a:stretch/>
        </p:blipFill>
        <p:spPr>
          <a:xfrm>
            <a:off x="4114800" y="5105520"/>
            <a:ext cx="4724280" cy="134784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5943600" y="5334120"/>
            <a:ext cx="2773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a6000d"/>
                </a:solidFill>
                <a:latin typeface="Arial"/>
              </a:rPr>
              <a:t>Cellular 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Adult Stem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785880" y="2021040"/>
            <a:ext cx="88153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in various tissues in the body and might be used to maintain and repair the same kind of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785880" y="3708360"/>
            <a:ext cx="86630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ss controversial because the adult stem cells can be obtained with the consent of their do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 Cycle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4" descr="Bio-Forward"/>
          <p:cNvPicPr/>
          <p:nvPr/>
        </p:nvPicPr>
        <p:blipFill>
          <a:blip r:embed="rId2"/>
          <a:stretch/>
        </p:blipFill>
        <p:spPr>
          <a:xfrm>
            <a:off x="6640560" y="6745320"/>
            <a:ext cx="47952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Ratio of Surface Area to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9" descr="ch 9 im 1"/>
          <p:cNvPicPr/>
          <p:nvPr/>
        </p:nvPicPr>
        <p:blipFill>
          <a:blip r:embed="rId1"/>
          <a:stretch/>
        </p:blipFill>
        <p:spPr>
          <a:xfrm>
            <a:off x="1442880" y="1978200"/>
            <a:ext cx="7643880" cy="45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8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790560" y="1647720"/>
            <a:ext cx="80485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s the cell grows, it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790560" y="2946240"/>
            <a:ext cx="8810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ll might have difficulty supplying nutrients and expelling enough waste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ransport of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90560" y="2021040"/>
            <a:ext cx="78962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bstances move by diffusion or by motor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90560" y="3214800"/>
            <a:ext cx="7743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fusion over large distances is slow and in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90560" y="4419720"/>
            <a:ext cx="82771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cells maintain more efficient transport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ellular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90560" y="2021040"/>
            <a:ext cx="78962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ed for signaling proteins to move throughout the cell also limits cell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90560" y="3214800"/>
            <a:ext cx="78962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ell size affects the ability of the cell              to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Cell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90560" y="2021040"/>
            <a:ext cx="8734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Cell division prevents the cell from becoming too lar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790560" y="3214800"/>
            <a:ext cx="8582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 also is the way the cell reproduces so that you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grow and heal certain inju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790560" y="4410000"/>
            <a:ext cx="8582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called 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cell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5029200"/>
            <a:ext cx="4129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785880" y="1311120"/>
            <a:ext cx="82818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Inter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stage during which the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790560" y="2995560"/>
            <a:ext cx="8505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Mit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stage of the cell cycle during which the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785880" y="4670280"/>
            <a:ext cx="8739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Cytokinesis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method by which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7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236232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8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4038480"/>
            <a:ext cx="411120" cy="35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AUDIO cop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77320" y="5257800"/>
            <a:ext cx="41256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5"/>
          <p:cNvSpPr/>
          <p:nvPr/>
        </p:nvSpPr>
        <p:spPr>
          <a:xfrm>
            <a:off x="1559160" y="-14400"/>
            <a:ext cx="28616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785880" y="1311120"/>
            <a:ext cx="84344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he Stages of I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785880" y="1919160"/>
            <a:ext cx="843444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irst stage of interphase,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285920" y="2523960"/>
            <a:ext cx="8434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254160" indent="-254160">
              <a:buClr>
                <a:srgbClr val="a50021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ll is growing, carrying out normal cell functions, and preparing to replicate D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ch 9 im 8 9 10"/>
          <p:cNvPicPr/>
          <p:nvPr/>
        </p:nvPicPr>
        <p:blipFill>
          <a:blip r:embed="rId1"/>
          <a:stretch/>
        </p:blipFill>
        <p:spPr>
          <a:xfrm>
            <a:off x="1871640" y="3581280"/>
            <a:ext cx="6781680" cy="30718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3"/>
          <p:cNvSpPr/>
          <p:nvPr/>
        </p:nvSpPr>
        <p:spPr>
          <a:xfrm>
            <a:off x="41400" y="15840"/>
            <a:ext cx="15253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ellula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3:37Z</dcterms:created>
  <dc:creator>Glencoe/McGraw-Hill</dc:creator>
  <dc:description/>
  <dc:language>en-US</dc:language>
  <cp:lastModifiedBy>trocksund</cp:lastModifiedBy>
  <dcterms:modified xsi:type="dcterms:W3CDTF">2014-02-18T23:36:59Z</dcterms:modified>
  <cp:revision>535</cp:revision>
  <dc:subject/>
  <dc:title>Glencoe Biology</dc:title>
</cp:coreProperties>
</file>